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BD8-063E-4D11-B04D-306D278F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CBF-2BF0-45D2-ABC3-2F93603E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62A-923D-4481-9211-3E739F0F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A3A-C772-46F3-9B1B-C7D355F3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057B-F460-4B52-8795-EF385FF7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4978-3607-44B9-BEAC-B189B9C3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4D4D-14B8-4964-9EFE-3D31E718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4CBC-0550-407B-A038-089E0347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D68B-D186-45AF-8862-44354326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DC39-4A1B-4575-8880-4E992D8D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496F-C538-4405-A64B-63BCF73D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67E-21D3-4A6F-BE74-73C9CBD0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14DD-FA40-4B85-9E5F-BE5B9038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8519-1B3F-4321-81E5-BA6D7036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D5F8-77E8-4689-80B0-956DEB20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6B5F-EA15-4370-8400-BC7D06E0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15BA-6AFB-4A96-8A85-89E9F77D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C01-D9E9-4FC3-82F2-5E89B149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3F4-9053-4F74-82E7-6368CE00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231-2345-465F-A0ED-D4872705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0BC-08F4-4211-AB38-71F4C33A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A6C-16CA-4C4D-B958-4F2D18E7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C50-4CD9-4DA0-8027-AD674F6D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621-C06F-4594-8C44-F7D1894A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C3F8-033D-4680-80B9-5D05ED83E3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B78C-9184-4349-A287-93C2D56644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mirror the introduction in l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back to the quote, anecdote, scene, or profile that you used to begin the essay and make som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nal comment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n the main purpose of the essay based on the information you’ve presented in the essa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of Conclus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should do three thing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dgement, Culmination, Send-o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Judg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l judgment on whatever question, issue, or problem the paper has focused up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connection with the introduction-repeating some of the key ter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les yes or no when considering the opening question or hypothe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licitly revisits the introductory claim for why the topic mat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of Conclus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min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p or summit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ing things together and ascend to one final statement of your thin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d-of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final opening outward of the topic that leads the reader out of the paper with something further to think about but does not introduce a brand new top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peculation that you have earned the right to formul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a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mm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gg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sue Im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son inductively to consider broader issues, such as the study’s practical consequences or applications, or future-oriented issues, such as avenues for further research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e Full Cir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ify your paper by interpreting the results of your analysis in light of the context you established in your 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Limi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knowledge restrictions of method or focus in your analysis, and qualify your conclusion (and its implications) according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Writing Analytically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avid Rosenwasser and Jill Stephen 200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57:57Z</dcterms:created>
  <dc:creator>klrodems</dc:creator>
  <dc:description/>
  <dc:language>en-US</dc:language>
  <cp:lastModifiedBy>Rodems, Kathy</cp:lastModifiedBy>
  <dcterms:modified xsi:type="dcterms:W3CDTF">2017-08-29T14:15:57Z</dcterms:modified>
  <cp:revision>12</cp:revision>
  <dc:subject/>
  <dc:title>Conclusions</dc:title>
</cp:coreProperties>
</file>